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40FE-C3BC-4259-A978-B564AD9FAC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6F4F-B3EC-44F7-815C-0AFBCEFDB8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1168-1D80-4E41-B69E-8471DA6E39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A10A-A6E2-4841-B426-B6FAA9E4DD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257E-B668-4AB7-9CE8-D9951EF188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8EB0-8985-4C6D-A15E-CBC4EC9776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76B3-EEC2-4876-A4C0-FE2F40F2AA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BDAA-B6D2-4528-859F-E8D32E0A36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50FB-1982-43A6-A4A2-9F7FBACEA3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6F6E-8900-4681-90B6-C5DD2345C7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84CE-CF48-425E-B800-4524842661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DE28-9295-41BE-A73F-3EFD918DA2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42A8-8013-49D4-B0FA-AE432583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C37-491C-4ACD-A4AF-0A4969D2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F799-C516-4856-89DB-96A22BBA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ACDA-89B6-4C29-A880-E94DF772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D490-5949-4AC1-909A-13595871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E42A-CE34-486D-88B6-CD31C1CA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8625-21B3-4A97-9E4F-E2C991B1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F5ED-38F7-4F4E-98F1-74A7DE85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6B7E-C587-4D0D-9A3C-60CDACE1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D279-FAF3-4981-A6A8-73193A30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FD9E-4002-4CCF-AEF3-9C816F21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0C98-80AD-4E0B-B04E-F1EF915A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02F7-B4F2-4FDA-97CD-0CE0E261D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81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4360" y="6093000"/>
            <a:ext cx="6400800" cy="62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neptune"/>
          <p:cNvPicPr/>
          <p:nvPr/>
        </p:nvPicPr>
        <p:blipFill>
          <a:blip r:embed="rId1"/>
          <a:stretch/>
        </p:blipFill>
        <p:spPr>
          <a:xfrm>
            <a:off x="2540160" y="1868400"/>
            <a:ext cx="40636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Pluto"/>
          <p:cNvPicPr/>
          <p:nvPr/>
        </p:nvPicPr>
        <p:blipFill>
          <a:blip r:embed="rId1"/>
          <a:stretch/>
        </p:blipFill>
        <p:spPr>
          <a:xfrm>
            <a:off x="2556000" y="1413000"/>
            <a:ext cx="402732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sun_skylab"/>
          <p:cNvPicPr/>
          <p:nvPr/>
        </p:nvPicPr>
        <p:blipFill>
          <a:blip r:embed="rId1"/>
          <a:stretch/>
        </p:blipFill>
        <p:spPr>
          <a:xfrm>
            <a:off x="1763640" y="1268280"/>
            <a:ext cx="55152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mercury2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venus"/>
          <p:cNvPicPr/>
          <p:nvPr/>
        </p:nvPicPr>
        <p:blipFill>
          <a:blip r:embed="rId1"/>
          <a:stretch/>
        </p:blipFill>
        <p:spPr>
          <a:xfrm>
            <a:off x="2340000" y="1197000"/>
            <a:ext cx="43815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earth"/>
          <p:cNvPicPr/>
          <p:nvPr/>
        </p:nvPicPr>
        <p:blipFill>
          <a:blip r:embed="rId1"/>
          <a:stretch/>
        </p:blipFill>
        <p:spPr>
          <a:xfrm>
            <a:off x="2330280" y="1600200"/>
            <a:ext cx="448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mars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jupiteR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saturn"/>
          <p:cNvPicPr/>
          <p:nvPr/>
        </p:nvPicPr>
        <p:blipFill>
          <a:blip r:embed="rId1"/>
          <a:stretch/>
        </p:blipFill>
        <p:spPr>
          <a:xfrm>
            <a:off x="1654200" y="1600200"/>
            <a:ext cx="5834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uranus"/>
          <p:cNvPicPr/>
          <p:nvPr/>
        </p:nvPicPr>
        <p:blipFill>
          <a:blip r:embed="rId1"/>
          <a:stretch/>
        </p:blipFill>
        <p:spPr>
          <a:xfrm>
            <a:off x="2556000" y="1413000"/>
            <a:ext cx="419868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8:06:35Z</dcterms:created>
  <dc:creator>GB</dc:creator>
  <dc:description/>
  <dc:language>en-US</dc:language>
  <cp:lastModifiedBy>RomaK</cp:lastModifiedBy>
  <dcterms:modified xsi:type="dcterms:W3CDTF">2015-07-31T22:51:08Z</dcterms:modified>
  <cp:revision>5</cp:revision>
  <dc:subject/>
  <dc:title>OUR SOLAR SYSTEM</dc:title>
</cp:coreProperties>
</file>